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795-B963-4027-87F0-9C631A3B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9D0-1D06-4322-AFF5-EC801B33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9D9-F4F7-4A6C-A898-BD870B16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76B-8AD3-4C0D-B1C7-0DD55511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0DFB-B66B-490B-9E9B-31CD955E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D3B4-EF90-4315-AAF0-104B8F5F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52BE-2696-4501-986D-7E237280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9707-D124-47D1-B622-AF0468E3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E7CC-411F-4535-BD55-19BE0EEA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5F6F-2CA4-4598-ACB5-5EB03D89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85D6-7073-44AB-A498-E23E8D10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F54-989D-4A1C-AD2B-8F072119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9C97-606C-4161-A036-05DFEFA1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846A-16E2-4632-89A4-9183A3BD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678B-4BDA-4045-8ACF-0F1EBB9B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0CEF-BC79-415A-9D9D-1D030549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236E-6E31-46FC-B0F2-04E2006C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383-0682-4B75-AE43-8960EF54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C80-F521-4DA6-B4D5-D9A9955A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499-BF0C-4E75-B98A-29646A7A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D3A-321D-4EFF-B2A3-065F5E72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40A-390C-448D-87A5-2F0E60D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BD2-A6F1-416F-A3DC-D5EAE3C4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D04-3C10-4D79-B553-5D92C0BA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90AD-FFD5-48F0-96F2-042BC5CBD3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80F6-5403-4F34-8ABF-B9C5A23465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716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sgram.narod.ru/" TargetMode="External"/><Relationship Id="rId3" Type="http://schemas.openxmlformats.org/officeDocument/2006/relationships/hyperlink" Target="http://www.orfo.ru/" TargetMode="External"/><Relationship Id="rId4" Type="http://schemas.openxmlformats.org/officeDocument/2006/relationships/hyperlink" Target="http://www.orfo.ru/" TargetMode="External"/><Relationship Id="rId5" Type="http://schemas.openxmlformats.org/officeDocument/2006/relationships/hyperlink" Target="http://www.hi-edu.ru/" TargetMode="External"/><Relationship Id="rId6" Type="http://schemas.openxmlformats.org/officeDocument/2006/relationships/hyperlink" Target="http://www.hi-edu.ru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262,2,&#1057;&#1088;&#1072;&#1074;&#1085;&#1080;&#1090;&#1077; &#1087;&#1088;&#1077;&#1076;&#1083;&#1086;&#1078;&#1077;&#1085;&#1080;&#1103;:" TargetMode="External"/><Relationship Id="rId3" Type="http://schemas.openxmlformats.org/officeDocument/2006/relationships/hyperlink" Target="6. &#1058;&#1077;&#1084;&#1099;, &#1085;&#1072;&#1089; &#1080;&#1085;&#1090;&#1077;&#1088;&#1077;&#1089;&#1091;&#1102;&#1097;&#1080;&#1077;:" TargetMode="External"/><Relationship Id="rId4" Type="http://schemas.openxmlformats.org/officeDocument/2006/relationships/hyperlink" Target="260,7,&#1069;&#1090;&#1072;&#1087;&#1099; &#1087;&#1088;&#1086;&#1074;&#1077;&#1076;&#1077;&#1085;&#1080;&#1103; &#1087;&#1088;&#1086;&#1077;&#1082;&#1090;&#1072;:" TargetMode="External"/><Relationship Id="rId5" Type="http://schemas.openxmlformats.org/officeDocument/2006/relationships/hyperlink" Target="263,9,&#1048;&#1085;&#1092;&#1086;&#1088;&#1084;&#1072;&#1094;&#1080;&#1086;&#1085;&#1085;&#1099;&#1077;  &#1088;&#1077;&#1089;&#1091;&#1088;&#1089;&#1099;: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9920"/>
            <a:ext cx="7772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Castellar"/>
              </a:rPr>
              <a:t>СЛОЖНОЕ  ПРЕДЛОЖЕНИЕ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Выполнила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Одолинская Тан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342 групп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astellar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Информационные 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Учебники по русскому языку (9 кл.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Сай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http://rusgram.narod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://www.orfo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   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Castellar"/>
                <a:hlinkClick r:id="rId6"/>
              </a:rPr>
              <a:t>://www.hi-edu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stellar"/>
              </a:rPr>
              <a:t>План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Castellar"/>
                <a:hlinkClick r:id="rId2"/>
              </a:rPr>
              <a:t>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Castellar"/>
                <a:hlinkClick r:id="rId3"/>
              </a:rPr>
              <a:t>Тем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Castellar"/>
                <a:hlinkClick r:id="rId4"/>
              </a:rPr>
              <a:t>Этап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astel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Castellar"/>
                <a:hlinkClick r:id="rId5"/>
              </a:rPr>
              <a:t>Ресурс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Сравните предлож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 из-за сильного дождя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Они опоздали, потому что шел сильный дождь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0" y="5562720"/>
            <a:ext cx="399096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stellar"/>
              </a:rPr>
              <a:t>В чем их различи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stellar"/>
              <a:ea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Castellar"/>
              </a:rPr>
              <a:t>ОСНОВОПОЛАГАЮЩИЙ  ВОПРО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2544480"/>
            <a:ext cx="80010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БЫТЬ  ГРАМОТНЫМ –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                </a:t>
            </a:r>
            <a:r>
              <a:rPr b="1" i="1" lang="en-US" sz="4300" spc="-1" strike="noStrike">
                <a:solidFill>
                  <a:srgbClr val="000000"/>
                </a:solidFill>
                <a:latin typeface="Castellar"/>
              </a:rPr>
              <a:t>ЭТО  ПРОСТО?!..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ПРОБЛЕМНЫЕ 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ими  бывают  предложе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Каковы различия между вид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Одинаковы ли правила пунктуации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ОСНОВНЫЕ    РАЗДЕЛЫ   КУРС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16320" y="1817280"/>
            <a:ext cx="6110640" cy="3459600"/>
            <a:chOff x="1516320" y="1817280"/>
            <a:chExt cx="6110640" cy="3459600"/>
          </a:xfrm>
        </p:grpSpPr>
        <p:sp>
          <p:nvSpPr>
            <p:cNvPr id="99" name="_s138248"/>
            <p:cNvSpPr/>
            <p:nvPr/>
          </p:nvSpPr>
          <p:spPr>
            <a:xfrm>
              <a:off x="3746520" y="2430360"/>
              <a:ext cx="1652760" cy="1755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4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38249"/>
            <p:cNvSpPr/>
            <p:nvPr/>
          </p:nvSpPr>
          <p:spPr>
            <a:xfrm>
              <a:off x="3746520" y="181728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38250"/>
            <p:cNvSpPr/>
            <p:nvPr/>
          </p:nvSpPr>
          <p:spPr>
            <a:xfrm>
              <a:off x="4290840" y="3433680"/>
              <a:ext cx="1652760" cy="1755720"/>
            </a:xfrm>
            <a:prstGeom prst="ellipse">
              <a:avLst/>
            </a:prstGeom>
            <a:solidFill>
              <a:srgbClr val="336699">
                <a:alpha val="50000"/>
              </a:srgbClr>
            </a:solidFill>
            <a:ln w="46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38251"/>
            <p:cNvSpPr/>
            <p:nvPr/>
          </p:nvSpPr>
          <p:spPr>
            <a:xfrm>
              <a:off x="5974200" y="4838040"/>
              <a:ext cx="16527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СП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38252"/>
            <p:cNvSpPr/>
            <p:nvPr/>
          </p:nvSpPr>
          <p:spPr>
            <a:xfrm>
              <a:off x="3200040" y="3432240"/>
              <a:ext cx="1652760" cy="17557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38253"/>
            <p:cNvSpPr/>
            <p:nvPr/>
          </p:nvSpPr>
          <p:spPr>
            <a:xfrm>
              <a:off x="1516320" y="4836240"/>
              <a:ext cx="16527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stellar"/>
                </a:rPr>
                <a:t>БС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stellar"/>
              </a:rPr>
              <a:t>Темы, нас интересующ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сочинен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ожноподчиненные предложения </a:t>
            </a:r>
            <a:r>
              <a:rPr b="0" lang="en-US" sz="3000" spc="-1" strike="noStrike">
                <a:solidFill>
                  <a:srgbClr val="000000"/>
                </a:solidFill>
                <a:latin typeface="Castellar"/>
              </a:rPr>
              <a:t>(с придаточными определительными, изъяснительными, обстоятельственными, условные, сравнительные, уступительные, образа действия и степени, места, времени, причины, цели, следствия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ессоюзные сложные предлож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040" y="420840"/>
            <a:ext cx="7985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Castellar"/>
              </a:rPr>
              <a:t>Этапы проведения проек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2255760"/>
            <a:ext cx="80010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1) Выбор и формулировка тем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2) Поиск информ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3) Самостоятельная работа учащих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4) Защита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stellar"/>
              </a:rPr>
              <a:t>Как будут представлены результа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Творческие презент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stellar"/>
              </a:rPr>
              <a:t>Букл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12T09:44:4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